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D61-9727-4EF9-B176-60C4615F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DC3-A108-4F9F-A580-9CC594D3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1C5-20BA-42D6-9ED5-AE4BF4AE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2BA-85E2-4797-9945-D1842678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C2FCA-03F5-4470-A66F-3C181EF2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5E603-53A8-45A4-951A-C32640D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82478-8F1F-465E-A14C-820DA80C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895AB-2613-4FB3-ACF7-D49AA975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EFBEA-7D4B-45F8-BF31-9D3BF7F7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9BE41-7C68-4338-AD5F-70E3F5EA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691AA-EE60-405B-ADC1-0747383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158-606A-4113-B54C-CEFC3C6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3BA0C-A029-4CD8-A9FE-49DE028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E2AA5-5B8A-4AAA-910E-AB0ED07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B0E03-1AEE-4026-8C0A-90D6DDA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BE218-8742-4588-A06B-9C67F9CA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29EE8-62C9-4CFF-9AB4-F55F4B86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F3B9-7DBE-49C5-92B4-D9792DEE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8449-227F-45B5-926F-B79725C8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6FC6-F8FF-4095-9B01-A0215D21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7701-DBB3-4610-8A3A-D1E12BA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C6F7-EB7E-42FA-96E3-2DAEBC1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4AA-A252-4053-A661-D6E5554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6C81-9C4D-4E35-92EB-A7818269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CA39-2CE7-40D4-BC2F-135923E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732B-1553-44AF-BA9E-9EDEF37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9DDE-B9D6-4CAF-912E-CD5C080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EF1D-8990-44F1-8C60-D0071978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0973-1077-4227-B9E4-DD85C3C2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008E-89A1-4C96-B817-4426149C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84D84-FF9C-4FA6-9BF1-77C9A409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159BB-1362-4DFB-B7C8-E94D1871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5701E-245E-47E2-A89A-CCB2865C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B69-49D0-4EE2-BFAC-A435111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7B17B-0407-4584-A755-23F0679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CFFE1-DD9E-4549-AEAE-A3D74444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4F630-5CF8-4C7F-9E44-25B0D56D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06709-27C2-4816-A2C1-57DE6C3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FF997-45BD-4633-8BA3-509A6849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21C09-C157-4C65-AC3E-54D02C5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AE7D3-C3C6-4717-BDAC-52B41BFE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0C29D-4A5C-4D13-8E72-07257F63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61022-777B-45E3-B98F-B4C51E41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7E0-8960-4296-A0E7-0B7458A0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361-C02B-411D-A8F1-A43A45D2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8B2-35EA-43E1-89E0-6DC9944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2F5-4D6B-474D-BA6B-F5D9875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E14-EA3A-449C-BFBC-1D054249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E340-991C-4530-8E80-910B3BC57268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D7CC-74F8-4C88-B5E9-995EBEEEB1AC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7C3D-7D28-46AD-9D11-9E5D8B9F4B94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1D21-62AE-410D-B71D-88FD88938343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000"/>
            </a:br>
            <a:r>
              <a:rPr b="0" lang="es-ES" sz="20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1. Se destaca el porcentaje + alto sobre el más baj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 Los porcentajes intermedios son “comodine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La interpretación obtenida se mira a la luz del  marco teór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50 % VOTARON POR PAC , 10 % POR EL FA,  25 % VOTARON POR EL ML Y 5 % NULOS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2 Título" descr=""/>
          <p:cNvPicPr/>
          <p:nvPr/>
        </p:nvPicPr>
        <p:blipFill>
          <a:blip r:embed="rId1"/>
          <a:stretch/>
        </p:blipFill>
        <p:spPr>
          <a:xfrm>
            <a:off x="401760" y="633240"/>
            <a:ext cx="82915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221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nstantia"/>
              </a:rPr>
              <a:t>CUALITATIV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CATEG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22 Rectángulo redondeado"/>
          <p:cNvSpPr/>
          <p:nvPr/>
        </p:nvSpPr>
        <p:spPr>
          <a:xfrm>
            <a:off x="5786280" y="485784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TRIANGU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23 Rectángulo redondeado"/>
          <p:cNvSpPr/>
          <p:nvPr/>
        </p:nvSpPr>
        <p:spPr>
          <a:xfrm>
            <a:off x="5286240" y="6143760"/>
            <a:ext cx="3857760" cy="571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INTERPRET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17 Elipse"/>
          <p:cNvSpPr/>
          <p:nvPr/>
        </p:nvSpPr>
        <p:spPr>
          <a:xfrm>
            <a:off x="2928960" y="3571920"/>
            <a:ext cx="2143080" cy="10713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ISTEMA MAN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21 Conector recto de flecha"/>
          <p:cNvCxnSpPr/>
          <p:nvPr/>
        </p:nvCxnSpPr>
        <p:spPr>
          <a:xfrm>
            <a:off x="2786040" y="3071880"/>
            <a:ext cx="1215360" cy="7149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230" name="27 Conector recto"/>
          <p:cNvSpPr/>
          <p:nvPr/>
        </p:nvSpPr>
        <p:spPr>
          <a:xfrm>
            <a:off x="3929040" y="4645080"/>
            <a:ext cx="285840" cy="4269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31 Conector recto de flecha"/>
          <p:cNvCxnSpPr/>
          <p:nvPr/>
        </p:nvCxnSpPr>
        <p:spPr>
          <a:xfrm flipV="1">
            <a:off x="4214880" y="4071600"/>
            <a:ext cx="1286640" cy="929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232" name="34 Elipse"/>
          <p:cNvSpPr/>
          <p:nvPr/>
        </p:nvSpPr>
        <p:spPr>
          <a:xfrm>
            <a:off x="4286160" y="1857240"/>
            <a:ext cx="2143080" cy="14288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NU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O ETNOG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46 Conector recto"/>
          <p:cNvSpPr/>
          <p:nvPr/>
        </p:nvSpPr>
        <p:spPr>
          <a:xfrm flipH="1">
            <a:off x="8643960" y="3929040"/>
            <a:ext cx="14400" cy="1357200"/>
          </a:xfrm>
          <a:prstGeom prst="line">
            <a:avLst/>
          </a:prstGeom>
          <a:ln w="1260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48 Conector recto"/>
          <p:cNvSpPr/>
          <p:nvPr/>
        </p:nvSpPr>
        <p:spPr>
          <a:xfrm flipH="1">
            <a:off x="8643960" y="3929040"/>
            <a:ext cx="14400" cy="1143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50 Conector recto"/>
          <p:cNvSpPr/>
          <p:nvPr/>
        </p:nvSpPr>
        <p:spPr>
          <a:xfrm>
            <a:off x="8357400" y="5357880"/>
            <a:ext cx="71640" cy="10713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57 Conector recto de flecha"/>
          <p:cNvCxnSpPr/>
          <p:nvPr/>
        </p:nvCxnSpPr>
        <p:spPr>
          <a:xfrm flipH="1" flipV="1">
            <a:off x="7643520" y="5428440"/>
            <a:ext cx="714960" cy="2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2 Título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6460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285840" y="2071800"/>
          <a:ext cx="8501040" cy="3382920"/>
        </p:xfrm>
        <a:graphic>
          <a:graphicData uri="http://schemas.openxmlformats.org/drawingml/2006/table">
            <a:tbl>
              <a:tblPr/>
              <a:tblGrid>
                <a:gridCol w="1576440"/>
                <a:gridCol w="1577880"/>
                <a:gridCol w="1835280"/>
                <a:gridCol w="1319040"/>
                <a:gridCol w="2192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ategorí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 análi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ágina oficial UN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ocumento  de  la carrer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 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orí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nde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Tipo de ser hum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Tipo de práctica educativ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Tipo de socie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1. Se destacan TENDENCIAS DE CATEGORIA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La interpretación obtenida se mira a la luz del   referente  teóric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3. se elabora un texto “tejido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2 Título" descr=""/>
          <p:cNvPicPr/>
          <p:nvPr/>
        </p:nvPicPr>
        <p:blipFill>
          <a:blip r:embed="rId1"/>
          <a:stretch/>
        </p:blipFill>
        <p:spPr>
          <a:xfrm>
            <a:off x="401760" y="633240"/>
            <a:ext cx="82915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onstantia"/>
              </a:rPr>
              <a:t>¿Y AHORA QUE NOS TOCA HACER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1.Planifiquemos (diseñemos)  el diagnóstico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(Realicemos el taller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2.Hagamos la investigació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diagnóstica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Escribamos el informe final del diagnóstico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(ver lista adjunta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Exploremos las competencias en los exploradores académic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2 Título" descr=""/>
          <p:cNvPicPr/>
          <p:nvPr/>
        </p:nvPicPr>
        <p:blipFill>
          <a:blip r:embed="rId1"/>
          <a:stretch/>
        </p:blipFill>
        <p:spPr>
          <a:xfrm>
            <a:off x="353880" y="146160"/>
            <a:ext cx="8339400" cy="1231920"/>
          </a:xfrm>
          <a:prstGeom prst="rect">
            <a:avLst/>
          </a:prstGeom>
          <a:ln w="0">
            <a:noFill/>
          </a:ln>
        </p:spPr>
      </p:pic>
      <p:sp>
        <p:nvSpPr>
          <p:cNvPr id="250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iagnóstico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5 Elipse"/>
          <p:cNvSpPr/>
          <p:nvPr/>
        </p:nvSpPr>
        <p:spPr>
          <a:xfrm>
            <a:off x="2928960" y="4857840"/>
            <a:ext cx="2357280" cy="11430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COMPETENCIA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Perfil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8 Estrella de 5 puntas"/>
          <p:cNvSpPr/>
          <p:nvPr/>
        </p:nvSpPr>
        <p:spPr>
          <a:xfrm>
            <a:off x="214200" y="3214800"/>
            <a:ext cx="3571920" cy="200016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Te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ndencias</a:t>
            </a: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 de la discipli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12 Conector recto"/>
          <p:cNvSpPr/>
          <p:nvPr/>
        </p:nvSpPr>
        <p:spPr>
          <a:xfrm flipH="1">
            <a:off x="1999800" y="4786200"/>
            <a:ext cx="1800" cy="785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7" name="14 Conector recto de flecha"/>
          <p:cNvCxnSpPr>
            <a:endCxn id="252" idx="2"/>
          </p:cNvCxnSpPr>
          <p:nvPr/>
        </p:nvCxnSpPr>
        <p:spPr>
          <a:xfrm>
            <a:off x="2000160" y="5428800"/>
            <a:ext cx="92952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19 Conector recto de flecha"/>
          <p:cNvCxnSpPr>
            <a:stCxn id="252" idx="6"/>
          </p:cNvCxnSpPr>
          <p:nvPr/>
        </p:nvCxnSpPr>
        <p:spPr>
          <a:xfrm>
            <a:off x="5285880" y="5428800"/>
            <a:ext cx="50076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22 Rectángulo redondeado"/>
          <p:cNvSpPr/>
          <p:nvPr/>
        </p:nvSpPr>
        <p:spPr>
          <a:xfrm>
            <a:off x="5786280" y="485784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Organización y gestión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23 Rectángulo redondeado"/>
          <p:cNvSpPr/>
          <p:nvPr/>
        </p:nvSpPr>
        <p:spPr>
          <a:xfrm>
            <a:off x="642960" y="6143760"/>
            <a:ext cx="8501040" cy="3571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EVALUACIÓ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25 Conector recto de flecha"/>
          <p:cNvCxnSpPr>
            <a:stCxn id="252" idx="0"/>
            <a:endCxn id="254" idx="1"/>
          </p:cNvCxnSpPr>
          <p:nvPr/>
        </p:nvCxnSpPr>
        <p:spPr>
          <a:xfrm flipV="1">
            <a:off x="4105800" y="3928680"/>
            <a:ext cx="1323000" cy="9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32 Flecha arriba y abajo"/>
          <p:cNvSpPr/>
          <p:nvPr/>
        </p:nvSpPr>
        <p:spPr>
          <a:xfrm>
            <a:off x="6643800" y="5572080"/>
            <a:ext cx="500040" cy="64296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1 Título" descr=""/>
          <p:cNvPicPr/>
          <p:nvPr/>
        </p:nvPicPr>
        <p:blipFill>
          <a:blip r:embed="rId1"/>
          <a:stretch/>
        </p:blipFill>
        <p:spPr>
          <a:xfrm>
            <a:off x="407880" y="146160"/>
            <a:ext cx="8285400" cy="933480"/>
          </a:xfrm>
          <a:prstGeom prst="rect">
            <a:avLst/>
          </a:prstGeom>
          <a:ln w="0">
            <a:noFill/>
          </a:ln>
        </p:spPr>
      </p:pic>
      <p:sp>
        <p:nvSpPr>
          <p:cNvPr id="266" name="6 Rectángulo"/>
          <p:cNvSpPr/>
          <p:nvPr/>
        </p:nvSpPr>
        <p:spPr>
          <a:xfrm>
            <a:off x="1071720" y="2143080"/>
            <a:ext cx="1643040" cy="15001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7 Rectángulo"/>
          <p:cNvSpPr/>
          <p:nvPr/>
        </p:nvSpPr>
        <p:spPr>
          <a:xfrm>
            <a:off x="3714840" y="2143080"/>
            <a:ext cx="1714320" cy="14288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8 Rectángulo"/>
          <p:cNvSpPr/>
          <p:nvPr/>
        </p:nvSpPr>
        <p:spPr>
          <a:xfrm>
            <a:off x="5929200" y="2214720"/>
            <a:ext cx="2000520" cy="12142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9 Rectángulo"/>
          <p:cNvSpPr/>
          <p:nvPr/>
        </p:nvSpPr>
        <p:spPr>
          <a:xfrm>
            <a:off x="1214280" y="4286160"/>
            <a:ext cx="1928880" cy="1143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11 CuadroTexto"/>
          <p:cNvSpPr/>
          <p:nvPr/>
        </p:nvSpPr>
        <p:spPr>
          <a:xfrm>
            <a:off x="1143000" y="1928880"/>
            <a:ext cx="164304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1 .1. </a:t>
            </a: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Diseñar 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diagnós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externo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2 CuadroTexto"/>
          <p:cNvSpPr/>
          <p:nvPr/>
        </p:nvSpPr>
        <p:spPr>
          <a:xfrm>
            <a:off x="3714840" y="1928880"/>
            <a:ext cx="185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2.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 Recolección de da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cuantitativos y cualit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3 CuadroTexto"/>
          <p:cNvSpPr/>
          <p:nvPr/>
        </p:nvSpPr>
        <p:spPr>
          <a:xfrm>
            <a:off x="5929200" y="2214720"/>
            <a:ext cx="200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1.3.Interpretación de los datos cualitativos y cuantit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14 CuadroTexto"/>
          <p:cNvSpPr/>
          <p:nvPr/>
        </p:nvSpPr>
        <p:spPr>
          <a:xfrm>
            <a:off x="1143000" y="4357800"/>
            <a:ext cx="185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1 .4. Elabor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Informe  final del diagnóst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5 Rectángulo"/>
          <p:cNvSpPr/>
          <p:nvPr/>
        </p:nvSpPr>
        <p:spPr>
          <a:xfrm>
            <a:off x="3571920" y="4429080"/>
            <a:ext cx="2214360" cy="1071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6 Rectángulo"/>
          <p:cNvSpPr/>
          <p:nvPr/>
        </p:nvSpPr>
        <p:spPr>
          <a:xfrm>
            <a:off x="6072120" y="4429080"/>
            <a:ext cx="1714680" cy="1071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6. Planificación de  la gestión  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7 CuadroTexto"/>
          <p:cNvSpPr/>
          <p:nvPr/>
        </p:nvSpPr>
        <p:spPr>
          <a:xfrm>
            <a:off x="3500280" y="4429080"/>
            <a:ext cx="221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5.   Realización de  la organización  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22 Conector recto de flecha"/>
          <p:cNvCxnSpPr/>
          <p:nvPr/>
        </p:nvCxnSpPr>
        <p:spPr>
          <a:xfrm>
            <a:off x="2714760" y="2571480"/>
            <a:ext cx="1072080" cy="43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26 Conector recto de flecha"/>
          <p:cNvCxnSpPr/>
          <p:nvPr/>
        </p:nvCxnSpPr>
        <p:spPr>
          <a:xfrm>
            <a:off x="5500440" y="2786040"/>
            <a:ext cx="57204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28 Conector recto de flecha"/>
          <p:cNvCxnSpPr/>
          <p:nvPr/>
        </p:nvCxnSpPr>
        <p:spPr>
          <a:xfrm flipH="1">
            <a:off x="2142720" y="3499200"/>
            <a:ext cx="4572720" cy="786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31 Conector recto de flecha"/>
          <p:cNvCxnSpPr/>
          <p:nvPr/>
        </p:nvCxnSpPr>
        <p:spPr>
          <a:xfrm>
            <a:off x="3071880" y="5214960"/>
            <a:ext cx="4291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42 Conector recto de flecha"/>
          <p:cNvCxnSpPr>
            <a:endCxn id="275" idx="1"/>
          </p:cNvCxnSpPr>
          <p:nvPr/>
        </p:nvCxnSpPr>
        <p:spPr>
          <a:xfrm flipV="1">
            <a:off x="5715000" y="4965480"/>
            <a:ext cx="35784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2" name="19 Marco"/>
          <p:cNvSpPr/>
          <p:nvPr/>
        </p:nvSpPr>
        <p:spPr>
          <a:xfrm>
            <a:off x="571680" y="3643200"/>
            <a:ext cx="45720" cy="242892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37 Marco"/>
          <p:cNvSpPr/>
          <p:nvPr/>
        </p:nvSpPr>
        <p:spPr>
          <a:xfrm>
            <a:off x="214200" y="1285920"/>
            <a:ext cx="8786880" cy="500076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38 CuadroTexto"/>
          <p:cNvSpPr/>
          <p:nvPr/>
        </p:nvSpPr>
        <p:spPr>
          <a:xfrm>
            <a:off x="3071880" y="571500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VALU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39 CuadroTexto"/>
          <p:cNvSpPr/>
          <p:nvPr/>
        </p:nvSpPr>
        <p:spPr>
          <a:xfrm>
            <a:off x="3286080" y="1500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Arial"/>
              </a:rPr>
              <a:t>EVALU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40 CuadroTexto"/>
          <p:cNvSpPr/>
          <p:nvPr/>
        </p:nvSpPr>
        <p:spPr>
          <a:xfrm>
            <a:off x="8501040" y="2428920"/>
            <a:ext cx="500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41 CuadroTexto"/>
          <p:cNvSpPr/>
          <p:nvPr/>
        </p:nvSpPr>
        <p:spPr>
          <a:xfrm flipH="1">
            <a:off x="285120" y="2071800"/>
            <a:ext cx="500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0004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4" name="3 Rectángulo"/>
          <p:cNvSpPr/>
          <p:nvPr/>
        </p:nvSpPr>
        <p:spPr>
          <a:xfrm>
            <a:off x="428760" y="3214800"/>
            <a:ext cx="2000160" cy="14284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TIP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DA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4 Elipse"/>
          <p:cNvSpPr/>
          <p:nvPr/>
        </p:nvSpPr>
        <p:spPr>
          <a:xfrm>
            <a:off x="3214800" y="1643040"/>
            <a:ext cx="3857400" cy="20001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75a3"/>
                </a:solidFill>
                <a:latin typeface="Constantia"/>
              </a:rPr>
              <a:t>cuantit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5 Elipse"/>
          <p:cNvSpPr/>
          <p:nvPr/>
        </p:nvSpPr>
        <p:spPr>
          <a:xfrm>
            <a:off x="3643200" y="4357800"/>
            <a:ext cx="3429000" cy="171432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75a3"/>
                </a:solidFill>
                <a:latin typeface="Constantia"/>
              </a:rPr>
              <a:t>cualit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7 Conector recto de flecha"/>
          <p:cNvCxnSpPr/>
          <p:nvPr/>
        </p:nvCxnSpPr>
        <p:spPr>
          <a:xfrm flipV="1">
            <a:off x="2500200" y="3142800"/>
            <a:ext cx="929520" cy="35784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cxnSp>
        <p:nvCxnSpPr>
          <p:cNvPr id="178" name="9 Conector recto de flecha"/>
          <p:cNvCxnSpPr/>
          <p:nvPr/>
        </p:nvCxnSpPr>
        <p:spPr>
          <a:xfrm>
            <a:off x="2428920" y="4428720"/>
            <a:ext cx="1357920" cy="5007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79" name="11 Rectángulo"/>
          <p:cNvSpPr/>
          <p:nvPr/>
        </p:nvSpPr>
        <p:spPr>
          <a:xfrm>
            <a:off x="7786800" y="2071800"/>
            <a:ext cx="1000080" cy="36432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12 Flecha izquierda"/>
          <p:cNvSpPr/>
          <p:nvPr/>
        </p:nvSpPr>
        <p:spPr>
          <a:xfrm>
            <a:off x="7143840" y="2286000"/>
            <a:ext cx="64296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13 Flecha izquierda"/>
          <p:cNvSpPr/>
          <p:nvPr/>
        </p:nvSpPr>
        <p:spPr>
          <a:xfrm>
            <a:off x="7072200" y="4857840"/>
            <a:ext cx="714600" cy="57132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184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nstantia"/>
              </a:rPr>
              <a:t>CUANTITATIV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22 Rectángulo redondeado"/>
          <p:cNvSpPr/>
          <p:nvPr/>
        </p:nvSpPr>
        <p:spPr>
          <a:xfrm>
            <a:off x="5786280" y="485784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GRÁFICOS Y CUAD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23 Rectángulo redondeado"/>
          <p:cNvSpPr/>
          <p:nvPr/>
        </p:nvSpPr>
        <p:spPr>
          <a:xfrm>
            <a:off x="5286240" y="6143760"/>
            <a:ext cx="3857760" cy="571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INTERPRETAC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17 Elipse"/>
          <p:cNvSpPr/>
          <p:nvPr/>
        </p:nvSpPr>
        <p:spPr>
          <a:xfrm>
            <a:off x="3214800" y="3571920"/>
            <a:ext cx="1714320" cy="10713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X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18 Nube"/>
          <p:cNvSpPr/>
          <p:nvPr/>
        </p:nvSpPr>
        <p:spPr>
          <a:xfrm>
            <a:off x="642960" y="3929040"/>
            <a:ext cx="2571840" cy="1785960"/>
          </a:xfrm>
          <a:prstGeom prst="pie">
            <a:avLst/>
          </a:prstGeom>
          <a:solidFill>
            <a:srgbClr val="dfcf04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STAD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21 Conector recto de flecha"/>
          <p:cNvCxnSpPr/>
          <p:nvPr/>
        </p:nvCxnSpPr>
        <p:spPr>
          <a:xfrm>
            <a:off x="2786040" y="3071880"/>
            <a:ext cx="1215360" cy="7149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94" name="27 Conector recto"/>
          <p:cNvSpPr/>
          <p:nvPr/>
        </p:nvSpPr>
        <p:spPr>
          <a:xfrm>
            <a:off x="3929040" y="4645080"/>
            <a:ext cx="285840" cy="4269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31 Conector recto de flecha"/>
          <p:cNvCxnSpPr/>
          <p:nvPr/>
        </p:nvCxnSpPr>
        <p:spPr>
          <a:xfrm flipV="1">
            <a:off x="4214880" y="4071600"/>
            <a:ext cx="1286640" cy="929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96" name="33 Flecha arriba"/>
          <p:cNvSpPr/>
          <p:nvPr/>
        </p:nvSpPr>
        <p:spPr>
          <a:xfrm>
            <a:off x="1785960" y="2928960"/>
            <a:ext cx="500040" cy="107172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34 Elipse"/>
          <p:cNvSpPr/>
          <p:nvPr/>
        </p:nvSpPr>
        <p:spPr>
          <a:xfrm>
            <a:off x="4714920" y="1857240"/>
            <a:ext cx="1428840" cy="14288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P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46 Conector recto"/>
          <p:cNvSpPr/>
          <p:nvPr/>
        </p:nvSpPr>
        <p:spPr>
          <a:xfrm flipH="1">
            <a:off x="8643960" y="3929040"/>
            <a:ext cx="14400" cy="1357200"/>
          </a:xfrm>
          <a:prstGeom prst="line">
            <a:avLst/>
          </a:prstGeom>
          <a:ln w="1260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48 Conector recto"/>
          <p:cNvSpPr/>
          <p:nvPr/>
        </p:nvSpPr>
        <p:spPr>
          <a:xfrm flipH="1">
            <a:off x="8643960" y="3929040"/>
            <a:ext cx="14400" cy="1143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50 Conector recto"/>
          <p:cNvSpPr/>
          <p:nvPr/>
        </p:nvSpPr>
        <p:spPr>
          <a:xfrm>
            <a:off x="8359920" y="5430960"/>
            <a:ext cx="69840" cy="99828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57 Conector recto de flecha"/>
          <p:cNvCxnSpPr/>
          <p:nvPr/>
        </p:nvCxnSpPr>
        <p:spPr>
          <a:xfrm flipH="1" flipV="1">
            <a:off x="7643520" y="5428440"/>
            <a:ext cx="714960" cy="2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Participantes en carrera por géne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285920" y="2500200"/>
          <a:ext cx="6095880" cy="1952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ener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recu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rcentaj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je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05" name="4 Elipse"/>
          <p:cNvSpPr/>
          <p:nvPr/>
        </p:nvSpPr>
        <p:spPr>
          <a:xfrm>
            <a:off x="1357200" y="4714920"/>
            <a:ext cx="5072040" cy="16430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75a3"/>
                </a:solidFill>
                <a:latin typeface="Constantia"/>
              </a:rPr>
              <a:t>INTERPRE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75a3"/>
                </a:solidFill>
                <a:latin typeface="Constantia"/>
              </a:rPr>
              <a:t>(tendencia de datos + teorí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5 Flecha izquierda y arriba"/>
          <p:cNvSpPr/>
          <p:nvPr/>
        </p:nvSpPr>
        <p:spPr>
          <a:xfrm>
            <a:off x="6357960" y="4500720"/>
            <a:ext cx="928800" cy="150012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4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2 Título" descr=""/>
          <p:cNvPicPr/>
          <p:nvPr/>
        </p:nvPicPr>
        <p:blipFill>
          <a:blip r:embed="rId2"/>
          <a:stretch/>
        </p:blipFill>
        <p:spPr>
          <a:xfrm>
            <a:off x="334800" y="146160"/>
            <a:ext cx="83584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0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2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4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COLUMN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LINE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BARR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12:47:16Z</dcterms:created>
  <dc:creator>Luis</dc:creator>
  <dc:description/>
  <dc:language>en-US</dc:language>
  <cp:lastModifiedBy>Luis</cp:lastModifiedBy>
  <dcterms:modified xsi:type="dcterms:W3CDTF">2018-03-19T15:43:25Z</dcterms:modified>
  <cp:revision>19</cp:revision>
  <dc:subject/>
  <dc:title>RUTA CRITICA DEL CURRÍCULO</dc:title>
</cp:coreProperties>
</file>